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6C5-2553-4388-A9FA-AF529F3F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1FE-AD03-4807-B427-BE734261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DC9-E5E4-4CEC-BB32-0748C6E4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F76-4C2E-408D-8263-67787796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56D-9A3F-4EF1-A395-0D97E253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A53-0A3C-4184-865C-163DD1D5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2CA-27C8-4F30-B1E2-320B1B0C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1B0-C21B-444E-8ECC-2AE99F62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1A9-7797-4293-BC88-979BD853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C37-14D5-4629-9078-E90C89D3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D2B-D439-43C6-8ABE-A7152B2A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4D8-D50E-41DA-9E64-0F0A764E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38EB-D3F9-4C1A-B8E0-AB1FB9C18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4"/>
          <p:cNvSpPr/>
          <p:nvPr/>
        </p:nvSpPr>
        <p:spPr>
          <a:xfrm>
            <a:off x="414360" y="2649960"/>
            <a:ext cx="831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РАТЕГІЯ РОЗВИТКУ КУЦУРУБСЬКО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ІЛЬСЬКОЇ ТЕРИТОРІАЛЬНОЇ ГРОМ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 2026 р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Картинки по запросу ольвия"/>
          <p:cNvPicPr/>
          <p:nvPr/>
        </p:nvPicPr>
        <p:blipFill>
          <a:blip r:embed="rId1"/>
          <a:stretch/>
        </p:blipFill>
        <p:spPr>
          <a:xfrm>
            <a:off x="0" y="0"/>
            <a:ext cx="2590920" cy="16286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2" descr="Картинки по запросу очаківський порт"/>
          <p:cNvPicPr/>
          <p:nvPr/>
        </p:nvPicPr>
        <p:blipFill>
          <a:blip r:embed="rId2"/>
          <a:stretch/>
        </p:blipFill>
        <p:spPr>
          <a:xfrm>
            <a:off x="2590920" y="0"/>
            <a:ext cx="2438280" cy="1633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Картинки по запросу ветряной парк очаковский"/>
          <p:cNvPicPr/>
          <p:nvPr/>
        </p:nvPicPr>
        <p:blipFill>
          <a:blip r:embed="rId3"/>
          <a:stretch/>
        </p:blipFill>
        <p:spPr>
          <a:xfrm>
            <a:off x="5029200" y="0"/>
            <a:ext cx="1981080" cy="1638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Картинки по запросу виноградники коблево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9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ртнерські відносини між владою і бізне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С. РОЗВИТОК ПІДПРИЄМНИЦЬКОЇ ДІЯЛЬН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ворення умов для залучення інвестиц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52280" y="3276720"/>
            <a:ext cx="350532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1 Спрощення отрим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зволів на ведення бізн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181480" y="3733920"/>
            <a:ext cx="381024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C.2.2. Створення комплексної прог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ідготовки та підвищення кваліфікації кад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52280" y="38862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2 Створення інформацій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ентру сприяння бізн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152280" y="46483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3 Створення систе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тримки місцевих виробник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152280" y="5410080"/>
            <a:ext cx="350532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4 Впровадження систе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онного урядув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181480" y="3276720"/>
            <a:ext cx="3810240" cy="3808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.2.1. Створення місцевої структури для залуче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вестицій та економічного розви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5181480" y="4267080"/>
            <a:ext cx="3810240" cy="76212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.2.3. Запровадження системного цільов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аркетингу інвестиційних можливостей і плані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ом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152280" y="59436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C.1.5 Стимулювання реєстрації вели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уб'єктів господарювання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риторії Грома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0" y="1219320"/>
            <a:ext cx="5410080" cy="144756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D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уристичний та курортний проду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(галузь економіки) D. РОЗВИТОК ТУРИЗ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6095880" y="1143000"/>
            <a:ext cx="3048120" cy="14479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D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неджмент і маркетинг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урортно-туристичних ресурсів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дуктів грома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1752120" y="762120"/>
            <a:ext cx="5257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17524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69343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152280" y="327672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 Формалізація туристичного кластер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3657600" y="3276720"/>
            <a:ext cx="274320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0 Забезпечити надання села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олончаки, Дмитрівка, Парутин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татусу курортних територі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6477120" y="3276720"/>
            <a:ext cx="2590560" cy="3808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1 Розробити офіційний брен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>
            <a:off x="495288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5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152280" y="358128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2 Розроблення нових туристичних продукт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152280" y="388620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3 Сприяння створенню інфраструктури туриз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152280" y="4191120"/>
            <a:ext cx="3429000" cy="38088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4 Забезпечення системного планування 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роведення культурно-масових заході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152280" y="4648320"/>
            <a:ext cx="3429000" cy="2286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5 Оптимізація виробництва сувенірної продукці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0"/>
          <p:cNvSpPr/>
          <p:nvPr/>
        </p:nvSpPr>
        <p:spPr>
          <a:xfrm>
            <a:off x="152280" y="49528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6 Створення сприятливих умов для розвитк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родуктів екологічного, зеленого та сільського туризм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3657600" y="388620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1 Розробити програми розвитк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ережі об’єктів відпочиваючи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2"/>
          <p:cNvSpPr/>
          <p:nvPr/>
        </p:nvSpPr>
        <p:spPr>
          <a:xfrm>
            <a:off x="6477120" y="3733920"/>
            <a:ext cx="2590560" cy="3808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2 Розробити маркетингов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атегію просування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6477120" y="4191120"/>
            <a:ext cx="2590560" cy="5331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3 Створе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формаційних та рекламн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4"/>
          <p:cNvSpPr/>
          <p:nvPr/>
        </p:nvSpPr>
        <p:spPr>
          <a:xfrm>
            <a:off x="6477120" y="4800600"/>
            <a:ext cx="2590560" cy="53352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4 Просування туристич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у Громади на зовнішній 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нутрішній р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5"/>
          <p:cNvSpPr/>
          <p:nvPr/>
        </p:nvSpPr>
        <p:spPr>
          <a:xfrm>
            <a:off x="6477120" y="5410080"/>
            <a:ext cx="2590560" cy="53352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D.2.5 Створи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інформаційно-туристич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ентр в Громад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6"/>
          <p:cNvSpPr/>
          <p:nvPr/>
        </p:nvSpPr>
        <p:spPr>
          <a:xfrm>
            <a:off x="152280" y="54100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7 Будівництво туристичної стежки ві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Очакова до Парутино вздовж узбережжя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7"/>
          <p:cNvSpPr/>
          <p:nvPr/>
        </p:nvSpPr>
        <p:spPr>
          <a:xfrm>
            <a:off x="152280" y="58672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8 Очищення прибережної смуги, створенн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ляжних з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152280" y="6324480"/>
            <a:ext cx="3429000" cy="38124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9 Створення зелених зон для масового відпоч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9"/>
          <p:cNvSpPr/>
          <p:nvPr/>
        </p:nvSpPr>
        <p:spPr>
          <a:xfrm>
            <a:off x="3657600" y="441972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2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Реставрація і консервація пам'ято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сторії, розташованих на території Громад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0"/>
          <p:cNvSpPr/>
          <p:nvPr/>
        </p:nvSpPr>
        <p:spPr>
          <a:xfrm>
            <a:off x="3657600" y="4952880"/>
            <a:ext cx="274320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3 Створення і відновлення скульптурни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ансамблів в громадських місцях 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території Громад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1"/>
          <p:cNvSpPr/>
          <p:nvPr/>
        </p:nvSpPr>
        <p:spPr>
          <a:xfrm>
            <a:off x="3657600" y="5562720"/>
            <a:ext cx="274320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D.1.14 Облаштування в'їздів на територі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Громади з використанням її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офіційного брен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теграція підприємств агропромисл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прямок (галузь економіки) Е. РОЗВИТОК АГРОПРОМИСЛОВОГО 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вищення продуктивності аграр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приємств і освоєння нових технолог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52280" y="32767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1 Сприяти формуванню клас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ідприємств виноробства 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ноградар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5181480" y="327672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1 Ініціювати системне вивч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инку, моніторинг ринків, створ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лужби сільськогосподарського маркет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152280" y="403848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2 Організувати цільовий маркетинг 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рендинг виноробної продукц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52280" y="53341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4 Створити систему інформаційної 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юридичної підтрим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ськогосподарського виробниц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152280" y="609588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5 Сприяти створен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ськогосподарських виробничих 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слуговуючих кооператив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5181480" y="403848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2 Сприяти впровадженню в рослинництв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хнологій, що зберігають природ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дючість грун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5181480" y="480060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3. Сприяти розширенню площ пі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апельним зрошенн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5181480" y="556272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2.4. Сприяти розвитку виноградар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дівництва і вирощування нових куль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152280" y="45720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.1.3 Сприяти розвитку м’ясо-молоч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оварного виробництва та переробці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Очаківського морського порт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Напрямок (галузь економіки) F. РОЗВИТОК ПОРТОВОГО ТА МОРЕГОСПОДАРСЬКОГО 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теграція підприєм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регосподарського комплек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52280" y="3276720"/>
            <a:ext cx="350532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1 Сприяти будівництву залізни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роги до пор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181480" y="327672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2.1 Будівництво причалу д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чкових суден в с. Парутино та с. Солонча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152280" y="388620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2 Сприяти будівницт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нтейнерного терміна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152280" y="449568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3 Сприяти проведенн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нопоглиблювальних робі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>
            <a:off x="152280" y="5105520"/>
            <a:ext cx="3505320" cy="5331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4 Сприяти проведенн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мивних робі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52280" y="571500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1.4 Сприяти модернізаці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ідротехнічних об’єкт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5181480" y="403848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2.2 Участь в організації прибережні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асажирській лінії Одеса-Скадов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заходом в порт Очак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>
            <a:off x="5181480" y="4800600"/>
            <a:ext cx="3810240" cy="6858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2.3. Сприяння організації логістичних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ранспортних компан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2"/>
          <p:cNvSpPr/>
          <p:nvPr/>
        </p:nvSpPr>
        <p:spPr>
          <a:xfrm>
            <a:off x="76320" y="1219320"/>
            <a:ext cx="2819160" cy="144756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ітря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лектроенерге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(галузь економіки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 РОЗВИТОК ЗЕЛЕНОЇ ЕНЕРГ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3048120" y="1219320"/>
            <a:ext cx="2971800" cy="144756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соня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лектроенерге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6095880" y="1143000"/>
            <a:ext cx="3048120" cy="14479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 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озвиток біоенергетик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 flipH="1">
            <a:off x="1752120" y="762120"/>
            <a:ext cx="5257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17524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44197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69343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152280" y="3276720"/>
            <a:ext cx="2667240" cy="76176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1.1 Сприяти функціонуван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тряної електростанці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с. Дмитрі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124080" y="3276720"/>
            <a:ext cx="2743200" cy="9144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2.1 Сприяти проектуванню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удівництву на територі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ромади соня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лектростанц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248520" y="3276720"/>
            <a:ext cx="2743200" cy="10666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1 Сприяти будівництв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отужностей з вироблення 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ходів сільсь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осподарства джере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іологічної енерг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449568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7"/>
          <p:cNvSpPr/>
          <p:nvPr/>
        </p:nvSpPr>
        <p:spPr>
          <a:xfrm>
            <a:off x="6248520" y="4419720"/>
            <a:ext cx="2743200" cy="6094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2 Переведення комунальн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станов на опалення палет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6248520" y="5105520"/>
            <a:ext cx="2743200" cy="7617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3 Сприяння переведенн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палення будів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ільгосппризначення на біога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6248520" y="5943600"/>
            <a:ext cx="2743200" cy="76212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3.4 Популяризація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 сере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жителів культури використ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альтернативних джерел енерг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152280" y="4114800"/>
            <a:ext cx="2667240" cy="9907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.1.2 Вирішення пита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щодо компенсації за шум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бруднення мешканцям сі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митрівка, Солончаки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36"/>
          <p:cNvSpPr/>
          <p:nvPr/>
        </p:nvSpPr>
        <p:spPr>
          <a:xfrm>
            <a:off x="0" y="702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6320" y="152280"/>
          <a:ext cx="8991360" cy="6400800"/>
        </p:xfrm>
        <a:graphic>
          <a:graphicData uri="http://schemas.openxmlformats.org/drawingml/2006/table">
            <a:tbl>
              <a:tblPr/>
              <a:tblGrid>
                <a:gridCol w="5817960"/>
                <a:gridCol w="982800"/>
                <a:gridCol w="1133280"/>
                <a:gridCol w="1057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0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6 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ріст чисельності наявного населення (чо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івень безробіття населення у віці 18-60 років (% до працездатного населенн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едня заробітна плата (гр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зареєстрованих юридичних осі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ФО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ворення нових робочих місц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яг бюджету (гр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 00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 00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 000 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стка утилізованих відходів в обсязі їх утворе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ща реконструйованих автомобільних доріг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к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онт та реконструкція об'єктів охорони здоров'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онт та реконструкція об'єктів осві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монт та реконструкція об'єктів культури та спор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нструкція системи водопостачання (у % до протяжності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реалізованих інвестиційних проектів на території Гром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міжнародних проектів технічної допомоги, що реалізовані на території Гром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нових туристичних продукті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відвідувачів туристичних об’єктів гром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ількість зареєстрованих місцевих брендів сільгосппродукції та виногра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ільшення площі під виноградниками та садами (у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ільшення поголів’я великої рогатої худоби (у 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ільшення обсягу перевалки вантажів Очаківським морським портом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1218"/>
          <p:cNvSpPr/>
          <p:nvPr/>
        </p:nvSpPr>
        <p:spPr>
          <a:xfrm>
            <a:off x="0" y="676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231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цес стратегічного планування (червень 2017-лютий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0" y="13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70"/>
          <p:cNvSpPr/>
          <p:nvPr/>
        </p:nvSpPr>
        <p:spPr>
          <a:xfrm>
            <a:off x="0" y="549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71"/>
          <p:cNvSpPr/>
          <p:nvPr/>
        </p:nvSpPr>
        <p:spPr>
          <a:xfrm>
            <a:off x="152280" y="762120"/>
            <a:ext cx="6858000" cy="76176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1. Створення Стратегічної ради Куцурубськ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ромади та організація роботи з стратегічного плануванн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2"/>
          <p:cNvSpPr/>
          <p:nvPr/>
        </p:nvSpPr>
        <p:spPr>
          <a:xfrm>
            <a:off x="380880" y="1523880"/>
            <a:ext cx="693432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2. Аналіз середовища та факторів розвитку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73"/>
          <p:cNvSpPr/>
          <p:nvPr/>
        </p:nvSpPr>
        <p:spPr>
          <a:xfrm>
            <a:off x="609480" y="2286000"/>
            <a:ext cx="701064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3. Визначення місії Громади і стратегічного баче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74"/>
          <p:cNvSpPr/>
          <p:nvPr/>
        </p:nvSpPr>
        <p:spPr>
          <a:xfrm>
            <a:off x="838080" y="3048120"/>
            <a:ext cx="7086600" cy="76176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4. Визначення основних напрямів розвитку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5"/>
          <p:cNvSpPr/>
          <p:nvPr/>
        </p:nvSpPr>
        <p:spPr>
          <a:xfrm>
            <a:off x="1066680" y="3809880"/>
            <a:ext cx="708660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5.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дій у вигляді стратегічних та оператив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ці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6"/>
          <p:cNvSpPr/>
          <p:nvPr/>
        </p:nvSpPr>
        <p:spPr>
          <a:xfrm>
            <a:off x="1295280" y="4572000"/>
            <a:ext cx="7086600" cy="76212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6. Визначення рейтингу оперативних ці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77"/>
          <p:cNvSpPr/>
          <p:nvPr/>
        </p:nvSpPr>
        <p:spPr>
          <a:xfrm>
            <a:off x="1523880" y="5334120"/>
            <a:ext cx="7086600" cy="685800"/>
          </a:xfrm>
          <a:prstGeom prst="rect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рок 7. Впровадження проектів та заходів Стратегії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13428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с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уцурубская гром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риторі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 багатовіковою історією, місце де знаходяться пам’ятники історії світового рів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пільнота людей, яка прославлена працею та гостинністю її мешканц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рай унікального м'якого клімату з лікувальним степови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ічковим і морським повітрям, один з найбільш соняч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гіонів в Україні, місце, де з'єднується Південний Бу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ніпро і Чорне море, де чудові чорноземи дарую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людям дари землероб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емля з великим досвідом виноградарства, виноробст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адівництва та вирощування хліб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кваторія, куди приходять кораблі з усього сві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-98640"/>
            <a:ext cx="9144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атегічне бачен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уцурубська громади в майбутнь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оціально-орієнтована Громада, яка створює середовище соціального благополуччя для своїх жителів за рахунок ефективного та дієвого управління її ресурс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часна самодостатня Громада, що розвиває свою інфраструктуру, забезпечує високий культурний та духовний розвиток насел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омфортна Громада, яка досягла високої якості життя для всіх своїх громадян, які мають сильне почуття гордості і впевненості в майбутньо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ціональний та регіональний туристичний центр, популярне місце для відпочинку, оазис для зеленого (сільського) і культурно-пізнавального туризм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екологічно чиста Громада, яка є затишним куточком Миколаївщини з безліччю садів і виноградник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центр виноградарства і виноробства світового рівня, місце розвитку зернового та м’ясо-молочного вироб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риторія для розвитку портового та морегосподарського комплексу міжнародного знач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інноваційна Громада - місце апробації та розвитку сучасних моделей та технологій управління, а також сучасних виробничих технологі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245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евіз громад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К добробуту спільними зусиллями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8046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І ПРИНЦИПИ РОЗВИТКУ ГРОМ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пріоритету соціальних пита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самодостатності грома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комфортності для жителів гром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інноваційност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ефективного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принцип партнерств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80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56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52280" y="152280"/>
            <a:ext cx="8915400" cy="2057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тратегічне </a:t>
            </a:r>
            <a:r>
              <a:rPr b="1" lang="uk-UA" sz="1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чен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Куцурубська г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мада в майбутньому це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оціально-орієнтована Громада, що створює середовище соціально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благополуччя для своїх жителів за рахунок ефективного та дієвого управління її ресурс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учасна самодостатн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громада, що розвиває свою сучасну інфраструктуру, забезпечує високий культурний та духовний розвиток населення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комфортна Громада, яка досягла високої якості життя для всіх своїх громадян, які мають сильне почуття гордості і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впевненості в майбутньому; туристична Громада, яка є національним та регіональним туристичним центром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популярне місце для відпочинку, оазис для зеленого (сільського) і культурно-пізнавального туризму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екологічно чиста Громада, яка є екологічно чистим затишним куточком Миколаївщини з безліччю садів і виноградників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ільськогосподарська Громада – центр виноградарства і виноробства світового рівня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морегосподарська Громада – місце порту та портового господарства України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інноваційна Громада - місце апробації та розвитку сучасних моделей та технологій управління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а також сучасних виробничих технологі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"/>
          <p:cNvSpPr/>
          <p:nvPr/>
        </p:nvSpPr>
        <p:spPr>
          <a:xfrm>
            <a:off x="0" y="3200400"/>
            <a:ext cx="4267080" cy="3657600"/>
          </a:xfrm>
          <a:prstGeom prst="ellipse">
            <a:avLst/>
          </a:prstGeom>
          <a:solidFill>
            <a:srgbClr val="b5dc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52280" y="2819520"/>
            <a:ext cx="3810240" cy="685800"/>
          </a:xfrm>
          <a:prstGeom prst="rect">
            <a:avLst/>
          </a:prstGeom>
          <a:solidFill>
            <a:srgbClr val="85c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ки розвитку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876920" y="3200400"/>
            <a:ext cx="4267080" cy="3657600"/>
          </a:xfrm>
          <a:prstGeom prst="ellipse">
            <a:avLst/>
          </a:prstGeom>
          <a:solidFill>
            <a:srgbClr val="c2fa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952880" y="2819520"/>
            <a:ext cx="3810240" cy="685800"/>
          </a:xfrm>
          <a:prstGeom prst="rect">
            <a:avLst/>
          </a:prstGeom>
          <a:solidFill>
            <a:srgbClr val="78eb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алузі спеціалізації економі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52280" y="3809880"/>
            <a:ext cx="3810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. Просторовий розвиток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52280" y="4495680"/>
            <a:ext cx="3810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 Розвиток ЖКГ та інфраструкту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52280" y="5181480"/>
            <a:ext cx="38102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. Розвиток підприємницької діяльност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5105520" y="38098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D. Розвиток туриз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5105520" y="44956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E. Розвиток агропромислового 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5105520" y="51814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F. Розвиток портового і морегосподарсь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омплек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5105520" y="5867280"/>
            <a:ext cx="38098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G. Розвиток зеленої енерге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>
            <a:off x="2057400" y="2209680"/>
            <a:ext cx="2362320" cy="609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4419720" y="2209680"/>
            <a:ext cx="2514600" cy="60984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3"/>
          <p:cNvSpPr/>
          <p:nvPr/>
        </p:nvSpPr>
        <p:spPr>
          <a:xfrm>
            <a:off x="228600" y="1219320"/>
            <a:ext cx="4038480" cy="144756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ідготовка якіс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істобудів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окумент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А. ПРОСТОРОВИЙ РОЗВИТОК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4"/>
          <p:cNvSpPr/>
          <p:nvPr/>
        </p:nvSpPr>
        <p:spPr>
          <a:xfrm>
            <a:off x="4648320" y="1219320"/>
            <a:ext cx="4190760" cy="144756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тимізація і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ви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емельних відно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 flipH="1">
            <a:off x="2361960" y="762120"/>
            <a:ext cx="464796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236232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>
            <a:off x="640080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3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914400" y="3276720"/>
            <a:ext cx="2743200" cy="60948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1. Розробка і прийнятт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хеми планування території Громад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а Генеральних планів сіл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914400" y="4038480"/>
            <a:ext cx="274320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2. Розробка і прийня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лану зонування територі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914400" y="472428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3. Розробка детальн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ланів забудови сіл Грома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5181480" y="3276720"/>
            <a:ext cx="2590920" cy="3808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1. Інвентаризац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емельних діля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3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6"/>
          <p:cNvSpPr/>
          <p:nvPr/>
        </p:nvSpPr>
        <p:spPr>
          <a:xfrm>
            <a:off x="75438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7"/>
          <p:cNvSpPr/>
          <p:nvPr/>
        </p:nvSpPr>
        <p:spPr>
          <a:xfrm>
            <a:off x="914400" y="5334120"/>
            <a:ext cx="274320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1.4. Створення містобудів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дастру Грома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8"/>
          <p:cNvSpPr/>
          <p:nvPr/>
        </p:nvSpPr>
        <p:spPr>
          <a:xfrm>
            <a:off x="5181480" y="3733920"/>
            <a:ext cx="2590920" cy="53316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2. Розмежування зем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жавної та комуналь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ласності в межах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5181480" y="4343400"/>
            <a:ext cx="2590920" cy="6094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3. Розроблення систе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торинного освоє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пущених та деградованих зем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5181480" y="5029200"/>
            <a:ext cx="2590920" cy="53352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4. Проведення суцільно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грохімічної паспортиз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емель сільгосппризначення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5181480" y="5638680"/>
            <a:ext cx="2590920" cy="38124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5. Розробка проектів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хем землеустрою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5181480" y="6095880"/>
            <a:ext cx="259092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.2.6. Стимулюван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нцентрації земельних масив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380880" y="1219320"/>
            <a:ext cx="4343400" cy="1371600"/>
          </a:xfrm>
          <a:prstGeom prst="ellipse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творення сприятливої екологічної обстан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52280" y="152280"/>
            <a:ext cx="8915400" cy="30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прямок В. РОЗВИТОК ЖКГ ТА ІНФРАСТРУКТУ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010280" y="609480"/>
            <a:ext cx="205740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тратегіч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4952880" y="1143000"/>
            <a:ext cx="3962520" cy="1447920"/>
          </a:xfrm>
          <a:prstGeom prst="ellipse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, ремонт і створенн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інженерно-технічної, транспортної 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оціальної інфраструкту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438280" y="762120"/>
            <a:ext cx="4572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2438280" y="762120"/>
            <a:ext cx="0" cy="4572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6781680" y="762120"/>
            <a:ext cx="0" cy="3808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76320" y="2819520"/>
            <a:ext cx="205740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еративні ці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H="1">
            <a:off x="2133720" y="2971800"/>
            <a:ext cx="5410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>
            <a:off x="2286000" y="2971800"/>
            <a:ext cx="0" cy="304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5"/>
          <p:cNvSpPr/>
          <p:nvPr/>
        </p:nvSpPr>
        <p:spPr>
          <a:xfrm>
            <a:off x="7543800" y="2971800"/>
            <a:ext cx="0" cy="2286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152280" y="32767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B.1.1 Забезпечення екологічно безпечної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анітарної очистки території Громади 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утилізації відході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152280" y="464832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B.1.3 Розроблення проекті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ідновлення місцевих водоймищ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152280" y="5410080"/>
            <a:ext cx="3505320" cy="4572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1.4. Розробка схеми екологічної мережі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152280" y="5943600"/>
            <a:ext cx="3505320" cy="68580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1.5. Створення системи екологіч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ховання жителів Грома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5105520" y="3200400"/>
            <a:ext cx="3886200" cy="6094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1. Реконструкція і будівництво дорі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будова дороги з твердим покриття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стрівка-Дмитрі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5105520" y="3886200"/>
            <a:ext cx="3886200" cy="60948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2. Реконструкція та будівниц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'єктів електропостачання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уличного освітл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5105520" y="4572000"/>
            <a:ext cx="388620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3. Ремонт та реконструкція об'єктів охор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доров'я. Створення Будинку для літніх у с. Парути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3"/>
          <p:cNvSpPr/>
          <p:nvPr/>
        </p:nvSpPr>
        <p:spPr>
          <a:xfrm>
            <a:off x="5105520" y="5105520"/>
            <a:ext cx="388620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4. Реконструкція систе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допостачання та водовідведе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152280" y="4038480"/>
            <a:ext cx="3505320" cy="533520"/>
          </a:xfrm>
          <a:prstGeom prst="rect">
            <a:avLst/>
          </a:prstGeom>
          <a:solidFill>
            <a:srgbClr val="b5dcf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.1.2. Розробка і прийняття Прави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лагоустро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5105520" y="5638680"/>
            <a:ext cx="3886200" cy="60984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5. Розробка Програми капітального ремонту 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конструкції будівель, що знаходяться в комунальні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ласності Гром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5105520" y="6324480"/>
            <a:ext cx="3886200" cy="457200"/>
          </a:xfrm>
          <a:prstGeom prst="rect">
            <a:avLst/>
          </a:prstGeom>
          <a:solidFill>
            <a:srgbClr val="c2fab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.2.6. Ініціювання створення органів самоорганіза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селення (сільських комітетів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24:05Z</dcterms:created>
  <dc:creator>Пользователь</dc:creator>
  <dc:description/>
  <dc:language>en-US</dc:language>
  <cp:lastModifiedBy>User</cp:lastModifiedBy>
  <dcterms:modified xsi:type="dcterms:W3CDTF">2017-02-13T06:28:4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