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B13-5149-4896-B7DE-CEB52162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9B6-7441-4EB8-B3B5-5FC6C6F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A69-18BD-4BB4-9004-1A5CE095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516-397C-481F-94AE-3FB54C13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246-4DBD-464C-97D3-F4B95B9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58C-E38E-42A7-BDCB-1FE1EEE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D4E-0316-4B6F-AF3F-DC3E8667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131-DC3E-4062-825F-C97A003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5F0-7434-4332-8507-388B825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B25-F483-4799-ACF9-044940E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94A-76DD-40A5-A445-DB5F7412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74A-1B2D-42EE-BAA6-1E11C8C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695E-CE60-4C45-983F-15B6BB988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414360" y="2649960"/>
            <a:ext cx="831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АТЕГІЯ РОЗВИТКУ КУЦУРУБСЬК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ІЛЬСЬКОЇ ТЕРИТОРІАЛЬНОЇ ГРОМ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 2026 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Картинки по запросу ольвия"/>
          <p:cNvPicPr/>
          <p:nvPr/>
        </p:nvPicPr>
        <p:blipFill>
          <a:blip r:embed="rId1"/>
          <a:stretch/>
        </p:blipFill>
        <p:spPr>
          <a:xfrm>
            <a:off x="0" y="0"/>
            <a:ext cx="259092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Картинки по запросу очаківський порт"/>
          <p:cNvPicPr/>
          <p:nvPr/>
        </p:nvPicPr>
        <p:blipFill>
          <a:blip r:embed="rId2"/>
          <a:stretch/>
        </p:blipFill>
        <p:spPr>
          <a:xfrm>
            <a:off x="2590920" y="0"/>
            <a:ext cx="2438280" cy="1633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Картинки по запросу ветряной парк очаковский"/>
          <p:cNvPicPr/>
          <p:nvPr/>
        </p:nvPicPr>
        <p:blipFill>
          <a:blip r:embed="rId3"/>
          <a:stretch/>
        </p:blipFill>
        <p:spPr>
          <a:xfrm>
            <a:off x="5029200" y="0"/>
            <a:ext cx="198108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Картинки по запросу виноградники коблево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9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тнерські відносини між владою і бізне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С. РОЗВИТОК ПІДПРИЄМНИЦЬКОЇ ДІЯЛЬН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ворення умов для залучення інвестиц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52280" y="32767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1 Спрощення отрим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ів на ведення бізн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181480" y="3733920"/>
            <a:ext cx="381024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C.2.2. Створення комплексної прог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ідготовки та підвищення кваліфікації кад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52280" y="38862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2 Створення інформацій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ентру сприяння бізн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52280" y="46483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3 Створення систе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тримки місцевих виробник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52280" y="5410080"/>
            <a:ext cx="350532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4 Впровадження систе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нного уря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181480" y="3276720"/>
            <a:ext cx="3810240" cy="3808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.2.1. Створення місцевої структури для залуче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вестицій та економічного розви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5181480" y="4267080"/>
            <a:ext cx="3810240" cy="76212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.2.3. Запровадження системного цільо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ркетингу інвестиційних можливостей і плані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152280" y="59436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5 Стимулювання реєстрації вели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б'єктів господарюванн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риторії Грома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0" y="1219320"/>
            <a:ext cx="541008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уристичний та курортний проду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(галузь економіки) D. РОЗВИТОК ТУР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095880" y="1143000"/>
            <a:ext cx="3048120" cy="1447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неджмент і маркетин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урортно-туристичних ресурсів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уктів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1752120" y="762120"/>
            <a:ext cx="5257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17524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152280" y="327672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 Формалізація туристичного кластер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657600" y="3276720"/>
            <a:ext cx="274320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0 Забезпечити надання села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лончаки, Дмитрівка, Парутин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усу курортних територі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477120" y="3276720"/>
            <a:ext cx="2590560" cy="3808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1 Розробити офіційний брен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495288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152280" y="358128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2 Розроблення нових туристичних продукт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152280" y="388620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3 Сприяння створенню інфраструктури туриз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152280" y="4191120"/>
            <a:ext cx="3429000" cy="38088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4 Забезпечення системного планування 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оведення культурно-масових заход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152280" y="464832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5 Оптимізація виробництва сувенірної продукц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152280" y="49528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6 Створення сприятливих умов для розвит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одуктів екологічного, зеленого та сільського туризм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3657600" y="388620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1 Розробити програми розвит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ережі об’єктів відпочиваючи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6477120" y="3733920"/>
            <a:ext cx="2590560" cy="3808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2 Розробити маркетинго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атегію просування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6477120" y="4191120"/>
            <a:ext cx="2590560" cy="5331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3 Створе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ормаційних та рекламн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6477120" y="4800600"/>
            <a:ext cx="259056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4 Просування туристич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у Громади на зовнішній 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р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6477120" y="5410080"/>
            <a:ext cx="259056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5 Створи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ормаційно-туристич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тр в Громад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6"/>
          <p:cNvSpPr/>
          <p:nvPr/>
        </p:nvSpPr>
        <p:spPr>
          <a:xfrm>
            <a:off x="152280" y="54100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7 Будівництво туристичної стежки ві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Очакова до Парутино вздовж узбережж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7"/>
          <p:cNvSpPr/>
          <p:nvPr/>
        </p:nvSpPr>
        <p:spPr>
          <a:xfrm>
            <a:off x="152280" y="58672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8 Очищення прибережної смуги, створенн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ляжних з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152280" y="63244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9 Створення зелених зон для масового відпоч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9"/>
          <p:cNvSpPr/>
          <p:nvPr/>
        </p:nvSpPr>
        <p:spPr>
          <a:xfrm>
            <a:off x="3657600" y="441972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Реставрація і консервація пам'ят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сторії, розташованих на території Громад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0"/>
          <p:cNvSpPr/>
          <p:nvPr/>
        </p:nvSpPr>
        <p:spPr>
          <a:xfrm>
            <a:off x="3657600" y="4952880"/>
            <a:ext cx="274320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3 Створення і відновлення скульптурни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ансамблів в громадських місцях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території Громад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1"/>
          <p:cNvSpPr/>
          <p:nvPr/>
        </p:nvSpPr>
        <p:spPr>
          <a:xfrm>
            <a:off x="3657600" y="5562720"/>
            <a:ext cx="274320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4 Облаштування в'їздів на територі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Громади з використанням ї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офіційного брен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ація підприємств агропромисл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рямок (галузь економіки) Е. РОЗВИТОК АГРОПРОМИСЛОВ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вищення продуктивності аграр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приємств і освоєння нових технолог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52280" y="32767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1 Сприяти формуванню клас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приємств виноробства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ногра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181480" y="3276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1 Ініціювати системне вив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инку, моніторинг ринків, створ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лужби сільськогосподарського маркет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52280" y="40384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2 Організувати цільовий маркетинг 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рендинг виноробної продук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52280" y="53341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4 Створити систему інформаційної 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юридичної підтрим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ськогосподарського виробниц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152280" y="609588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5 Сприяти створе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ськогосподарських виробничих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слуговуючих кооператив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5181480" y="403848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2 Сприяти впровадженню в рослинницт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хнологій, що зберігають природ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дючість гру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5181480" y="480060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3. Сприяти розширенню площ пі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пельним зрошен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5181480" y="5562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4. Сприяти розвитку виноградар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дівництва і вирощування нових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152280" y="45720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3 Сприяти розвитку м’ясо-моло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арного виробництва та переробці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Очаківського морського пор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рямок (галузь економіки) F. РОЗВИТОК ПОРТОВОГО ТА МОРЕГОСПОДАРСЬК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ація підприєм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егосподарського комплек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52280" y="32767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1 Сприяти будівництву залізни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роги до пор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181480" y="3276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1 Будівництво причалу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ових суден в с. Парутино та с. Солонча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152280" y="388620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2 Сприяти будівниц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тейнерного термін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52280" y="44956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3 Сприяти про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нопоглиблювальних роб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152280" y="51055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4 Сприяти про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мивних робі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52280" y="571500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4 Сприяти модернізац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ідротехнічних об’єк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5181480" y="403848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2 Участь в організації прибережні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сажирській лінії Одеса-Скадов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заходом в порт Оча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5181480" y="480060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3. Сприяння організації логістичних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анспортних компан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2"/>
          <p:cNvSpPr/>
          <p:nvPr/>
        </p:nvSpPr>
        <p:spPr>
          <a:xfrm>
            <a:off x="76320" y="1219320"/>
            <a:ext cx="281916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тря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ектроенерг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(галузь економіки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РОЗВИТОК ЗЕЛЕНОЇ ЕНЕРГ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3048120" y="1219320"/>
            <a:ext cx="2971800" cy="144756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соня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ектроенерг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6095880" y="1143000"/>
            <a:ext cx="3048120" cy="1447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біоенергетик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1752120" y="762120"/>
            <a:ext cx="5257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17524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4197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52280" y="3276720"/>
            <a:ext cx="2667240" cy="7617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1.1 Сприяти функціонува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тряної електростанц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с. Дмитрі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124080" y="3276720"/>
            <a:ext cx="2743200" cy="9144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2.1 Сприяти проектуванню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дівництву на територ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ромади соня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стан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248520" y="3276720"/>
            <a:ext cx="2743200" cy="10666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1 Сприяти будівниц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ужностей з вироблення 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ходів сільсь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сподарства джер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ологічної енерг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49568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6248520" y="4419720"/>
            <a:ext cx="2743200" cy="6094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2 Переведення комуналь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станов на опалення пале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248520" y="5105520"/>
            <a:ext cx="2743200" cy="7617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3 Сприяння пере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алення будів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госппризначення на біога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6248520" y="5943600"/>
            <a:ext cx="2743200" cy="7621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4 Популяризаці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сер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жителів культури використ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льтернативних джерел енерг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152280" y="4114800"/>
            <a:ext cx="2667240" cy="9907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1.2 Вирішення пит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до компенсації за шум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бруднення мешканцям сі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митрівка, Солончак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36"/>
          <p:cNvSpPr/>
          <p:nvPr/>
        </p:nvSpPr>
        <p:spPr>
          <a:xfrm>
            <a:off x="0" y="702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320" y="152280"/>
          <a:ext cx="8991360" cy="6400800"/>
        </p:xfrm>
        <a:graphic>
          <a:graphicData uri="http://schemas.openxmlformats.org/drawingml/2006/table">
            <a:tbl>
              <a:tblPr/>
              <a:tblGrid>
                <a:gridCol w="5817960"/>
                <a:gridCol w="982800"/>
                <a:gridCol w="1133280"/>
                <a:gridCol w="1057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6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іст чисельності наявного населення (чо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ень безробіття населення у віці 18-60 років (% до працездатного населенн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я заробітна плата (гр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зареєстрованих юридичних осі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ФО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ворення нових робочих міс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бюджету (гр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стка утилізованих відходів в обсязі їх утвор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ща реконструйованих автомобільних доріг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охорони здоров'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осві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культури та сп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нструкція системи водопостачання (у % до протяжності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реалізованих інвестиційних проектів на території Гром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міжнародних проектів технічної допомоги, що реалізовані на території Гром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нових туристичних продук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відвідувачів туристичних об’єктів гром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зареєстрованих місцевих брендів сільгосппродукції та виногра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площі під виноградниками та садами (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поголів’я великої рогатої худоби (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обсягу перевалки вантажів Очаківським морським портом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218"/>
          <p:cNvSpPr/>
          <p:nvPr/>
        </p:nvSpPr>
        <p:spPr>
          <a:xfrm>
            <a:off x="0" y="676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231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цес стратегічного планування (червень 2017-лютий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13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0"/>
          <p:cNvSpPr/>
          <p:nvPr/>
        </p:nvSpPr>
        <p:spPr>
          <a:xfrm>
            <a:off x="0" y="549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1"/>
          <p:cNvSpPr/>
          <p:nvPr/>
        </p:nvSpPr>
        <p:spPr>
          <a:xfrm>
            <a:off x="152280" y="762120"/>
            <a:ext cx="6858000" cy="76176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1. Створення Стратегічної ради Куцурубськ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ромади та організація роботи з стратегічного планува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2"/>
          <p:cNvSpPr/>
          <p:nvPr/>
        </p:nvSpPr>
        <p:spPr>
          <a:xfrm>
            <a:off x="380880" y="1523880"/>
            <a:ext cx="693432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2. Аналіз середовища та факторів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3"/>
          <p:cNvSpPr/>
          <p:nvPr/>
        </p:nvSpPr>
        <p:spPr>
          <a:xfrm>
            <a:off x="609480" y="2286000"/>
            <a:ext cx="701064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3. Визначення місії Громади і стратегічного баче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4"/>
          <p:cNvSpPr/>
          <p:nvPr/>
        </p:nvSpPr>
        <p:spPr>
          <a:xfrm>
            <a:off x="838080" y="3048120"/>
            <a:ext cx="7086600" cy="76176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4. Визначення основних напрямів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5"/>
          <p:cNvSpPr/>
          <p:nvPr/>
        </p:nvSpPr>
        <p:spPr>
          <a:xfrm>
            <a:off x="1066680" y="3809880"/>
            <a:ext cx="708660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5.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дій у вигляді стратегічних та оператив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ці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6"/>
          <p:cNvSpPr/>
          <p:nvPr/>
        </p:nvSpPr>
        <p:spPr>
          <a:xfrm>
            <a:off x="1295280" y="4572000"/>
            <a:ext cx="708660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6. Визначення рейтингу оперативних ці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7"/>
          <p:cNvSpPr/>
          <p:nvPr/>
        </p:nvSpPr>
        <p:spPr>
          <a:xfrm>
            <a:off x="1523880" y="5334120"/>
            <a:ext cx="7086600" cy="68580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7. Впровадження проектів та заходів Стратег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342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с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цурубская гром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риторі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багатовіковою історією, місце де знаходяться пам’ятники історії світового рі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ільнота людей, яка прославлена працею та гостинністю її мешканц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рай унікального м'якого клімату з лікувальним степов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чковим і морським повітрям, один з найбільш соняч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гіонів в Україні, місце, де з'єднується Південний Б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ніпро і Чорне море, де чудові чорноземи дарую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юдям дари землероб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емля з великим досвідом виноградарства, винороб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адівництва та вирощування хлі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кваторія, куди приходять кораблі з усього с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-9864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атегічне баче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уцурубська громади в майбутнь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оціально-орієнтована Громада, яка створює середовище соціального благополуччя для своїх жителів за рахунок ефективного та дієвого управління її ресурс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часна самодостатня Громада, що розвиває свою інфраструктуру, забезпечує високий культурний та духовний розвиток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мфортна Громада, яка досягла високої якості життя для всіх своїх громадян, які мають сильне почуття гордості і впевненості в майбутнь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ціональний та регіональний туристичний центр, популярне місце для відпочинку, оазис для зеленого (сільського) і культурно-пізнавального туриз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екологічно чиста Громада, яка є затишним куточком Миколаївщини з безліччю садів і виноград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центр виноградарства і виноробства світового рівня, місце розвитку зернового та м’ясо-молочного вироб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риторія для розвитку портового та морегосподарського комплексу міжнародного знач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нноваційна Громада - місце апробації та розвитку сучасних моделей та технологій управління, а також сучасних виробничих технологі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245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евіз грома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К добробуту спільними зусиллями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804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ПРИНЦИПИ РОЗВИТКУ ГРОМ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пріоритету соціальних пита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самодостатності гром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комфортності для жителів гром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інноваційност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ефективного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партнерст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52280" y="152280"/>
            <a:ext cx="8915400" cy="2057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ратегічне 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ч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Куцурубська г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мада в майбутньому ц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ціально-орієнтована Громада, що створює середовище соціальн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благополуччя для своїх жителів за рахунок ефективного та дієвого управління її ресурс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учасна самодостатн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громада, що розвиває свою сучасну інфраструктуру, забезпечує високий культурний та духовний розвиток населення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комфортна Громада, яка досягла високої якості життя для всіх своїх громадян, які мають сильне почуття гордості і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певненості в майбутньому; туристична Громада, яка є національним та регіональним туристичним центро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пулярне місце для відпочинку, оазис для зеленого (сільського) і культурно-пізнавального туризму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екологічно чиста Громада, яка є екологічно чистим затишним куточком Миколаївщини з безліччю садів і виноградникі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ільськогосподарська Громада – центр виноградарства і виноробства світового рівня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орегосподарська Громада – місце порту та портового господарства України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новаційна Громада - місце апробації та розвитку сучасних моделей та технологій управлінн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а також сучасних виробничих технологі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"/>
          <p:cNvSpPr/>
          <p:nvPr/>
        </p:nvSpPr>
        <p:spPr>
          <a:xfrm>
            <a:off x="0" y="3200400"/>
            <a:ext cx="4267080" cy="3657600"/>
          </a:xfrm>
          <a:prstGeom prst="ellipse">
            <a:avLst/>
          </a:prstGeom>
          <a:solidFill>
            <a:srgbClr val="b5dc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2819520"/>
            <a:ext cx="3810240" cy="685800"/>
          </a:xfrm>
          <a:prstGeom prst="rect">
            <a:avLst/>
          </a:prstGeom>
          <a:solidFill>
            <a:srgbClr val="85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ки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876920" y="3200400"/>
            <a:ext cx="4267080" cy="3657600"/>
          </a:xfrm>
          <a:prstGeom prst="ellipse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952880" y="2819520"/>
            <a:ext cx="3810240" cy="685800"/>
          </a:xfrm>
          <a:prstGeom prst="rect">
            <a:avLst/>
          </a:prstGeom>
          <a:solidFill>
            <a:srgbClr val="78eb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алузі спеціалізації економі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52280" y="38098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. Просторовий розвиток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52280" y="44956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 Розвиток ЖКГ та інфраструкт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52280" y="51814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Розвиток підприємницької діяльн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105520" y="38098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Розвиток тур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5105520" y="44956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E. Розвиток агропромислов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5105520" y="51814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Розвиток портового і морегосподарсь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5105520" y="58672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G. Розвиток зеленої енерг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2057400" y="2209680"/>
            <a:ext cx="2362320" cy="609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4419720" y="2209680"/>
            <a:ext cx="2514600" cy="609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3"/>
          <p:cNvSpPr/>
          <p:nvPr/>
        </p:nvSpPr>
        <p:spPr>
          <a:xfrm>
            <a:off x="228600" y="1219320"/>
            <a:ext cx="403848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ідготовка якіс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істобудів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кумент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А. ПРОСТОРОВИЙ РОЗВИТОК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4648320" y="1219320"/>
            <a:ext cx="4190760" cy="144756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имізація 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них відно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2361960" y="762120"/>
            <a:ext cx="46479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2362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640080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914400" y="3276720"/>
            <a:ext cx="2743200" cy="60948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1. Розробка і прийнят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хеми планування території Гро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 Генеральних планів сіл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914400" y="4038480"/>
            <a:ext cx="274320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2. Розробка і прий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лану зонування територі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914400" y="472428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3. Розробка детальн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ланів забудови сіл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181480" y="3276720"/>
            <a:ext cx="2590920" cy="3808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1. Інвентаризац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них діля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6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914400" y="533412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4. Створення містобуді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дастру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5181480" y="3733920"/>
            <a:ext cx="2590920" cy="53316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2. Розмежування зем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жавної та комуналь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ласності в межах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5181480" y="4343400"/>
            <a:ext cx="259092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3. Розроблення систе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торинного освоє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пущених та деградованих зем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5181480" y="5029200"/>
            <a:ext cx="2590920" cy="53352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4. Проведення суціль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грохімічної паспортиз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 сільгосппризначення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5181480" y="5638680"/>
            <a:ext cx="2590920" cy="38124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5. Розробка проектів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хем землеустрою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181480" y="6095880"/>
            <a:ext cx="259092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6. Стимулюва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нтрації земельних масив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ворення сприятливої екологічної обстан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В. РОЗВИТОК ЖКГ ТА ІНФРАСТРУКТ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, ремонт і створ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женерно-технічної, транспортної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ціальної інфраструкту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7543800" y="2971800"/>
            <a:ext cx="0" cy="2286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152280" y="32767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B.1.1 Забезпечення екологічно безпе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нітарної очистки території Громади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илізації відход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152280" y="46483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B.1.3 Розроблення проект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новлення місцевих водоймищ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152280" y="5410080"/>
            <a:ext cx="350532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4. Розробка схеми екологічної мереж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152280" y="59436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5. Створення системи екологіч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ховання жителів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5105520" y="3200400"/>
            <a:ext cx="388620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1. Реконструкція і будівництво дорі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будова дороги з твердим покриття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стрівка-Дмитрі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5105520" y="3886200"/>
            <a:ext cx="388620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2. Реконструкція та будівни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'єктів електропостачання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уличного освіт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5105520" y="457200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3. Ремонт та реконструкція об'єктів охор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доров'я. Створення Будинку для літніх у с. Парути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3"/>
          <p:cNvSpPr/>
          <p:nvPr/>
        </p:nvSpPr>
        <p:spPr>
          <a:xfrm>
            <a:off x="5105520" y="510552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4. Реконструкція систе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допостачання та водовідвед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152280" y="40384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2. Розробка і прийняття Прав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лагоустро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5105520" y="5638680"/>
            <a:ext cx="3886200" cy="60984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5. Розробка Програми капітального ремонту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конструкції будівель, що знаходяться в комунальні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ласності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105520" y="632448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6. Ініціювання створення органів самоорганіз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селення (сільських комітеті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24:05Z</dcterms:created>
  <dc:creator>Пользователь</dc:creator>
  <dc:description/>
  <dc:language>en-US</dc:language>
  <cp:lastModifiedBy>User</cp:lastModifiedBy>
  <dcterms:modified xsi:type="dcterms:W3CDTF">2017-02-13T06:28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